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2388F-F2AB-4181-817E-3FD65C51A39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de-DE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Foliennummernplatzhalt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9C1AB-17BA-42CC-9F45-D51C307E8802}" type="slidenum">
              <a:rPr b="0" lang="de-DE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FED58-EB62-421A-ADC8-1E49A434F9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BA85-FE63-4764-9058-D34DFB047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C165D-56CD-4B52-9C74-C779B5E4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31803-161D-4DF1-BFF1-29EDF0978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6915C-28E9-4212-93C6-7922D8E8D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DF5E-944D-4D09-BA7C-5CFF0CFC8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C7787-0C3E-4146-870A-0F3D28AF4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E5E-0CB0-4015-B772-2CCE9080F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6C645-216A-4DFE-A08E-88268284D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2B5D-F1A1-43AB-BBBB-316A3B7E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8CA90-406D-4316-AB84-138C7BAA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2B512-D666-45F6-87A5-1ABDD96E8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A1AFA-240D-4AC1-9C98-274A5C9E55A9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Chaos macht Schule</a:t>
            </a:r>
            <a:br>
              <a:rPr sz="4400"/>
            </a:br>
            <a:br>
              <a:rPr sz="800"/>
            </a:b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 Internet und 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57200" y="4285800"/>
            <a:ext cx="6400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ainer  -  Björn  -  Lut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Funktioniert Privatsphäre auch im Internet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Funktioniert Privatsphäre</a:t>
            </a:r>
            <a:br>
              <a:rPr sz="4400"/>
            </a:b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auch im Internet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Lesen, denken, nochmal denken und dann erst machen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Füllt bei der Anmeldung nicht alle Daten aus, sondern nur die, die unbedingt notwendig sind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Ändert die Einstellungen eures Profils so, dass nicht jeder andere Benutzer alle Daten von euch sieh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Prüft, wem ihr eure Daten eigentlich geb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3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oziale Netzwerk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r von euch nutzt „</a:t>
            </a:r>
            <a:r>
              <a:rPr b="1" i="1" lang="de-DE" sz="3200" spc="-1" strike="noStrike">
                <a:solidFill>
                  <a:srgbClr val="ffffff"/>
                </a:solidFill>
                <a:latin typeface="Calibri"/>
              </a:rPr>
              <a:t>Soziale Netzwerke“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0" name="Picture 3" descr="G:\Chaos macht Schule\Mittelstufe - Wilhelm-Gymnasium - HH-Harvestehude\Keynote\screenshot 50.png"/>
          <p:cNvPicPr/>
          <p:nvPr/>
        </p:nvPicPr>
        <p:blipFill>
          <a:blip r:embed="rId2"/>
          <a:stretch/>
        </p:blipFill>
        <p:spPr>
          <a:xfrm>
            <a:off x="6429240" y="4000680"/>
            <a:ext cx="1428840" cy="4968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G:\Chaos macht Schule\Mittelstufe - Wilhelm-Gymnasium - HH-Harvestehude\Keynote\screenshot 51.png"/>
          <p:cNvPicPr/>
          <p:nvPr/>
        </p:nvPicPr>
        <p:blipFill>
          <a:blip r:embed="rId3"/>
          <a:stretch/>
        </p:blipFill>
        <p:spPr>
          <a:xfrm>
            <a:off x="4857840" y="2857680"/>
            <a:ext cx="1803240" cy="99036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7" descr="G:\Chaos macht Schule\Mittelstufe - Wilhelm-Gymnasium - HH-Harvestehude\Keynote\Bild 25.png"/>
          <p:cNvPicPr/>
          <p:nvPr/>
        </p:nvPicPr>
        <p:blipFill>
          <a:blip r:embed="rId4"/>
          <a:stretch/>
        </p:blipFill>
        <p:spPr>
          <a:xfrm>
            <a:off x="1071720" y="2928960"/>
            <a:ext cx="2422440" cy="12016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6" descr="G:\Chaos macht Schule\Mittelstufe - Wilhelm-Gymnasium - HH-Harvestehude\Keynote\screenshot 53.png"/>
          <p:cNvPicPr/>
          <p:nvPr/>
        </p:nvPicPr>
        <p:blipFill>
          <a:blip r:embed="rId5"/>
          <a:stretch/>
        </p:blipFill>
        <p:spPr>
          <a:xfrm>
            <a:off x="2643120" y="4071960"/>
            <a:ext cx="3594240" cy="10796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" descr="G:\Chaos macht Schule\Mittelstufe - Wilhelm-Gymnasium - HH-Harvestehude\Keynote\screenshot 49.png"/>
          <p:cNvPicPr/>
          <p:nvPr/>
        </p:nvPicPr>
        <p:blipFill>
          <a:blip r:embed="rId6"/>
          <a:stretch/>
        </p:blipFill>
        <p:spPr>
          <a:xfrm>
            <a:off x="785880" y="5357880"/>
            <a:ext cx="2428920" cy="5634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G:\Chaos macht Schule\Mittelstufe - Wilhelm-Gymnasium - HH-Harvestehude\Keynote\screenshot 52.png"/>
          <p:cNvPicPr/>
          <p:nvPr/>
        </p:nvPicPr>
        <p:blipFill>
          <a:blip r:embed="rId7"/>
          <a:stretch/>
        </p:blipFill>
        <p:spPr>
          <a:xfrm>
            <a:off x="5000760" y="4929120"/>
            <a:ext cx="1828800" cy="914400"/>
          </a:xfrm>
          <a:prstGeom prst="rect">
            <a:avLst/>
          </a:prstGeom>
          <a:ln w="0">
            <a:noFill/>
          </a:ln>
        </p:spPr>
      </p:pic>
      <p:sp>
        <p:nvSpPr>
          <p:cNvPr id="116" name="Gerade Verbindung 13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7" name="Picture 3" descr="G:\chaosknoten.png"/>
          <p:cNvPicPr/>
          <p:nvPr/>
        </p:nvPicPr>
        <p:blipFill>
          <a:blip r:embed="rId8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r von euch ist bei </a:t>
            </a:r>
            <a:r>
              <a:rPr b="1" i="1" lang="de-DE" sz="3200" spc="-1" strike="noStrike">
                <a:solidFill>
                  <a:srgbClr val="ffffff"/>
                </a:solidFill>
                <a:latin typeface="Calibri"/>
              </a:rPr>
              <a:t>SchuelerVZ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571680" y="171432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n 7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27 SchülerInn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n 8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29 SchülerInn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n 9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32 SchülerInn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n 10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42 SchülerInne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findet ihr an </a:t>
            </a:r>
            <a:r>
              <a:rPr b="1" i="1" lang="de-DE" sz="3200" spc="-1" strike="noStrike">
                <a:solidFill>
                  <a:srgbClr val="ffffff"/>
                </a:solidFill>
                <a:latin typeface="Calibri"/>
              </a:rPr>
              <a:t>SchuelerVZ 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ool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Fremde und Freunde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In den Standardeinstellungen dürfen nur eure Freunde auf euer Profil, eure Gruppen und eure Fotos zugreif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o können Fremde euch nicht beobachte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chaut in euren Einstellungen nach und ändert da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71680" y="1356840"/>
            <a:ext cx="792936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G:\Chaos macht Schule\Gesamtschule Blankenese\Powerpoint\Profil.gesperrt.png"/>
          <p:cNvPicPr/>
          <p:nvPr/>
        </p:nvPicPr>
        <p:blipFill>
          <a:blip r:embed="rId3"/>
          <a:stretch/>
        </p:blipFill>
        <p:spPr>
          <a:xfrm>
            <a:off x="857160" y="1785960"/>
            <a:ext cx="736308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357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7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7" descr="G:\Chaos macht Schule\Gesamtschule Blankenese\Powerpoint\Profil.offen.png"/>
          <p:cNvPicPr/>
          <p:nvPr/>
        </p:nvPicPr>
        <p:blipFill>
          <a:blip r:embed="rId3"/>
          <a:stretch/>
        </p:blipFill>
        <p:spPr>
          <a:xfrm>
            <a:off x="2071800" y="1214280"/>
            <a:ext cx="50720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bedeutet Freundschaft für euch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er sind wi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er Chaos Computer Club ist seit 25 Jahren eine Vereinigung von Hackern, Computerspezialisten und Datenschützer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ir beschäftigen uns meist mit interessanter Technik und experimentieren mit ihren Möglichkeiten, untersuchen aber auch ihre Gefahren und Risiken für die Gesellschaf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Wichtig: Freundschaft hat was mit Vertrauen zu tu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Nur weil euch jemand eine Freundschaft anbietet, heißt das noch lange nicht, dass ihr die auch annehmen müss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Oder würdet ihr jeden in euer Zimmer rein lassen, nur weil er oder sie an der Tür klopft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Die meisten „Freunde“ zu haben, ist nicht cool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ich auf richtige Freunde verlassen zu können, ist cool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Nicknames sind erfunden!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Ina.Lehmann@Inter.net muss nicht Ina Lehmann sei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Online kann jeder vorgeben, jemand anderes zu sein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Zuerst prüfen,  bevor ihr jemanden als Freund hinzufügt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as lernen wir aus all dem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28760" y="164268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Im Internet gibt es keine Polizei oder Behörde, die hilf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Das können eh nur meine Freunde lesen“ gibt es nicht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Das Internet vergisst nichts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Die 4 goldenen Regel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428760" y="14288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chreibt im Netz nur, was die Welt wirklich wissen darf.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Auch in Foren oder im SchülerVZ kann das jeder lesen: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Eure Mitschüler, Lehrer, Eltern und sogar Fremde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enn möglich, benutzt einen Spitznamen (Nickname).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Euren echten Namen könnt ihr nicht so einfach wechsel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Gebt nicht wahllos eure Adresse weg. Auch eure Handynummer geht nur eure Freunde etwas 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Gebt nicht einfach Fotos von euch raus und ladet keine Fotos von anderen ins Internet, ohne sie zu frag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Danke fürs Wachbleiben!</a:t>
            </a:r>
            <a:br>
              <a:rPr sz="40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i="1" lang="de-DE" sz="4400" spc="-1" strike="noStrike">
                <a:solidFill>
                  <a:srgbClr val="ffffff"/>
                </a:solidFill>
                <a:latin typeface="Calibri"/>
              </a:rPr>
              <a:t>Fragen? </a:t>
            </a:r>
            <a:r>
              <a:rPr b="0" lang="de-DE" sz="4400" spc="-1" strike="noStrike">
                <a:solidFill>
                  <a:srgbClr val="ffffff"/>
                </a:solidFill>
                <a:latin typeface="Calibri"/>
              </a:rPr>
              <a:t>Immer her damit. :-)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28760" y="1857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Untertitel 2"/>
          <p:cNvSpPr/>
          <p:nvPr/>
        </p:nvSpPr>
        <p:spPr>
          <a:xfrm>
            <a:off x="1357200" y="3071880"/>
            <a:ext cx="64008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Rainer  -  rainer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Björn  -  bjoern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Lutz  -  lutz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er von Euch spielt…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2" descr="C:\Dokumente und Einstellungen\Administrator\Desktop\hwg\bilder wow\worldmap.gif"/>
          <p:cNvPicPr/>
          <p:nvPr/>
        </p:nvPicPr>
        <p:blipFill>
          <a:blip r:embed="rId3"/>
          <a:stretch/>
        </p:blipFill>
        <p:spPr>
          <a:xfrm>
            <a:off x="2357280" y="1357200"/>
            <a:ext cx="3429000" cy="2511360"/>
          </a:xfrm>
          <a:prstGeom prst="rect">
            <a:avLst/>
          </a:prstGeom>
          <a:ln w="0">
            <a:noFill/>
          </a:ln>
        </p:spPr>
      </p:pic>
      <p:pic>
        <p:nvPicPr>
          <p:cNvPr id="191" name="Grafik 8" descr="mmorpg-fantasy-metin2-screenshot6.jpg"/>
          <p:cNvPicPr/>
          <p:nvPr/>
        </p:nvPicPr>
        <p:blipFill>
          <a:blip r:embed="rId4"/>
          <a:stretch/>
        </p:blipFill>
        <p:spPr>
          <a:xfrm>
            <a:off x="5572080" y="3286080"/>
            <a:ext cx="2959200" cy="1967040"/>
          </a:xfrm>
          <a:prstGeom prst="rect">
            <a:avLst/>
          </a:prstGeom>
          <a:ln w="0">
            <a:noFill/>
          </a:ln>
        </p:spPr>
      </p:pic>
      <p:pic>
        <p:nvPicPr>
          <p:cNvPr id="192" name="Inhaltsplatzhalter 6" descr="flyffScreenshot2.jpg"/>
          <p:cNvPicPr/>
          <p:nvPr/>
        </p:nvPicPr>
        <p:blipFill>
          <a:blip r:embed="rId5"/>
          <a:stretch/>
        </p:blipFill>
        <p:spPr>
          <a:xfrm>
            <a:off x="785880" y="3714840"/>
            <a:ext cx="27684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lche Spiele spielt ih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findet ihr daran cool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stört eure Eltern an diesen Spiele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G:\internet.jpg"/>
          <p:cNvPicPr/>
          <p:nvPr/>
        </p:nvPicPr>
        <p:blipFill>
          <a:blip r:embed="rId2"/>
          <a:stretch/>
        </p:blipFill>
        <p:spPr>
          <a:xfrm>
            <a:off x="857160" y="642960"/>
            <a:ext cx="7429680" cy="507204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 txBox="1"/>
          <p:nvPr/>
        </p:nvSpPr>
        <p:spPr>
          <a:xfrm>
            <a:off x="457200" y="1600200"/>
            <a:ext cx="697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2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Eltern an den Spielen nicht so toll fin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ie Dauer der Abenteuer ist oft sehr la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ie Spiele können leicht süchtig mach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Man muss oft online sein, um den Anschluss nicht zu verpass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Viele Spiele verursachen laufende Kost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ie Spiele haben kein En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wir euch empfehl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Plant eure Spiele genau wie andere Termin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Meldet lange Quests bei euren Eltern 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Zeigt euren Eltern, dass ihr die anderen Aufgaben auch erledig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Begrenzt eure wöchentlichen Ausgaben für das Spiel (bei Flyff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ie funktioniert eigentlich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das Internet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7" name="Picture 2" descr="G:\internet.gif"/>
          <p:cNvPicPr/>
          <p:nvPr/>
        </p:nvPicPr>
        <p:blipFill>
          <a:blip r:embed="rId2"/>
          <a:stretch/>
        </p:blipFill>
        <p:spPr>
          <a:xfrm>
            <a:off x="1928880" y="1571760"/>
            <a:ext cx="5214960" cy="4643280"/>
          </a:xfrm>
          <a:prstGeom prst="rect">
            <a:avLst/>
          </a:prstGeom>
          <a:ln w="0">
            <a:noFill/>
          </a:ln>
        </p:spPr>
      </p:pic>
      <p:sp>
        <p:nvSpPr>
          <p:cNvPr id="68" name="Gerade Verbindung 6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elche Spuren hinterlässt man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beim Surf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Verbindungsd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IP-Adresse -&gt; Wohnort, Sprac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Betriebssystem, Brows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Verlauf der Seitenaufruf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ookies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9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Cookies: Beispiel Amaz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8" name="Picture 2" descr="G:\Chaos macht Schule\Mittelstufe - Wilhelm-Gymnasium - HH-Harvestehude\Keynote\amazon.png"/>
          <p:cNvPicPr/>
          <p:nvPr/>
        </p:nvPicPr>
        <p:blipFill>
          <a:blip r:embed="rId2"/>
          <a:stretch/>
        </p:blipFill>
        <p:spPr>
          <a:xfrm>
            <a:off x="2928960" y="1714680"/>
            <a:ext cx="4500720" cy="4429080"/>
          </a:xfrm>
          <a:prstGeom prst="rect">
            <a:avLst/>
          </a:prstGeom>
          <a:ln w="0">
            <a:noFill/>
          </a:ln>
        </p:spPr>
      </p:pic>
      <p:sp>
        <p:nvSpPr>
          <p:cNvPr id="79" name="Rechteck 4"/>
          <p:cNvSpPr/>
          <p:nvPr/>
        </p:nvSpPr>
        <p:spPr>
          <a:xfrm>
            <a:off x="357120" y="1785960"/>
            <a:ext cx="2571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mazon weiß,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was ich mir in der Vergangenh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ngeguckt habe,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und schlägt mir entsprech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ndere Produkte v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So kann Amazon me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Surfverhal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nachvollziehen 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zielgerichtete Werbung schal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Gerade Verbindung 7"/>
          <p:cNvSpPr/>
          <p:nvPr/>
        </p:nvSpPr>
        <p:spPr>
          <a:xfrm>
            <a:off x="28584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Vorratsdatenspeicherung“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Der Staat liest mit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Uhrzeit und IP-Adres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Aufgerufene Webseite (URL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Absender, Empfänger und Inhalt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jeder Email und S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ufnummern und Anrufdauer bei Telefon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tandort (Funkzelle) von Hand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elche Spuren hinterlässt man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beim Surf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Freiwillige“ D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oziale Netzwerke“ und Cha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Persönliche Benutzerpro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Internet Arch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Unverschlüsselte Passwör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bedeutet für euch „Privatsphäre“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06-23T20:20:32Z</dcterms:modified>
  <cp:revision>127</cp:revision>
  <dc:subject/>
  <dc:title>Folie 1</dc:title>
</cp:coreProperties>
</file>